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59B0-4C82-4C95-BFE0-FE3B1CD6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B6D-4251-43A4-A77F-BBA15D2F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6AE-AB50-4610-A065-CF37A848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989-AC9A-49B4-B049-DF202327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064D-9092-4796-9FE5-58CE5F84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49D3-D54C-4A25-845C-6EDBD534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1532-643E-4E79-B453-A81AC434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848A-121A-4FB0-95B1-03F35FFF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660F-EBFE-4B29-BFAE-E537CD884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529C-0834-40CB-AF7E-FF61D6BD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9ACD-FEB3-4E3A-840B-CD33C0DA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EA8-0F83-4AB8-9C7F-E9AEBB60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3ADF-E242-4BED-BE15-A78BE4DB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DB0E-15B5-45C4-AEE8-5A8233C2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FAC7-7B4D-43B5-B216-DAF499E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45CB-68A9-4819-9386-486A4C73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EB0F-67C9-4C9D-A08F-35988DEE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62C-27F7-4C66-9C49-CAD45E42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88B8-415C-4A1A-BC2B-152F8B3D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3F9-A3E8-410A-8AD1-26EF9FE0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F3B-801C-411A-B97D-5D50BA8B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B00-3CFA-4884-A750-F658BF69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550-16D3-4661-BBFE-0B19DE28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1828-2B84-497A-913A-17A32ACF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3831-1A39-4405-99F1-29CD062F65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96EE-EDB1-46BB-BDB8-62B29060D0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Katie Hernandez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heim City School Distr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rick Henry Ele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Grade Curriculum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external image khernandez.png"/>
          <p:cNvPicPr/>
          <p:nvPr/>
        </p:nvPicPr>
        <p:blipFill>
          <a:blip r:embed="rId1"/>
          <a:stretch/>
        </p:blipFill>
        <p:spPr>
          <a:xfrm>
            <a:off x="1447920" y="1905120"/>
            <a:ext cx="761760" cy="64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ology Knowled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fortable learning new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remely comfortable with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use Excel for sorting data and making cha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fortable with PPT (need to learn more about effective slides – Presentation Z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technology da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chnology Goa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e teachers to Wikispaces in order to encourage and facilitate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e teachers to Social Bookmarking in order to encourage and facilitate collabo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 new ways to use Exc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hievement of Goa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day grade-level collaboration meetings are coming up in District offers classes through their TIS November so that will be the perfect time to introduce both Wikispaces and Social Bookma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aheim City School department so I can take an advanced Excel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6:17:56Z</dcterms:created>
  <dc:creator>kmhernandez</dc:creator>
  <dc:description/>
  <dc:language>en-US</dc:language>
  <cp:lastModifiedBy>kmhernandez</cp:lastModifiedBy>
  <dcterms:modified xsi:type="dcterms:W3CDTF">2006-10-26T18:02:51Z</dcterms:modified>
  <cp:revision>8</cp:revision>
  <dc:subject/>
  <dc:title>Slide 1</dc:title>
</cp:coreProperties>
</file>